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94B8-3C7F-4D63-86AB-8C66F7F19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DE61-6A1E-4E5D-88E7-6D69FC905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1BB-BF19-4299-9F5E-F2EE67278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C63D-D325-4F06-BD67-B32259332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3CAF3-9CFD-4914-9620-E092FA79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C0169-75B5-4F01-AEBA-4B46C5CA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55E14-C3AC-46D7-8047-E9006C1B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3E2BB-A8B0-471A-8CBA-0625A88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EC0E6-B715-4B56-BE3D-C09F692F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CA42D-9B33-4D50-B828-27C7C1D2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0D799-F716-4379-A5DC-E83DC809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E3482-4C22-4202-A909-E7290F014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0AD4B-E571-4569-8FAE-99ACC33A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C8345-F21B-42B0-BDA2-308E3F4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7D5A9-979B-4B8B-9437-9CC19B45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45A8-759D-44EF-94EB-C91A6375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70674-0E11-4C7C-B02D-B1088A60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38A8-15F8-491B-B83C-1905E0125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AD12-65B9-420C-96C1-E8F41DA33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E695-A841-495B-937C-936902DCA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380A-6EA1-43A1-B04C-713ADA50F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6A551-E870-49D9-B0BD-BA6733350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7BEC-1C95-46DC-B7F5-2BB70CBA2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D69C-704F-4734-9C08-0FEE43F08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EE4D-9D85-4CC9-B9FC-1405448A9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2800" y="57913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5783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2BE2-907A-4A40-BFC7-14324F7F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art 3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lood Sp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959200" cy="19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7504-08AC-454A-BA0A-46569E64D8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stains caused by contact between a wet blood-bearing surface and a second surface which may or may not have blood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mage is recognizable and may be identifiable with a particula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t blood is transferred to a surface which did not have blood on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on-blood bearing object moves through a wet bloodstain, altering the appearance of the original s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2F01-9174-40D3-BE83-E70E5CCDD6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direction a drop of blood traveled in space from its point of ori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speed to which a free falling drop of blood can accelerate in air. It is dependent upon the acceleration of gravity and the friction of the air against the bl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25.1 feet/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than 25 feet per second, usually 100 feet per second; gives a fine mist 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25 feet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eet per second or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57F4-E717-4213-81D6-6BD30080C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shape of a blood dr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falls straight down at a 90 degre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ip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roplets elongate as the angle decreases from 90 to 0 degrees; the angle can be determined by the following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4495680"/>
          <a:ext cx="624816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62481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5A74-5FBD-4D10-9DAF-27D9A37F11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 of impact, the more elongated the s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degree angles are perfectly round drops with 80 degree angles taking on a more elliptical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bout 30 degrees the stain will begin to produce a t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, the easier it is to determine the direction of tra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11400">
            <a:off x="6095880" y="121896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1828800" cy="27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DC63-6522-4B37-92C1-51D3284E0A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ffects of the Angle of Impact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452412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drop on the left fell 42 inches at an angl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60-degree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n to hard smooth cardboard, while the drop on the right fell the same 42 inches and on to the same surface, but at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0-degree ang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0B86-763F-4ADE-84B7-478C97F42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der and less porous the surface, the less the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er and more porous the surface, the more a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ed end of the blood stain faces the direction of tra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400" y="1981080"/>
            <a:ext cx="2535120" cy="3429000"/>
            <a:chOff x="5486400" y="1981080"/>
            <a:chExt cx="2535120" cy="3429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5486400" y="1981080"/>
              <a:ext cx="2535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5486400" y="1981080"/>
              <a:ext cx="25351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8340-0D1F-4503-AE7D-7D6019B3E5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ea of Inters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Conver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4952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cation of the blood source can be determined by drawing lines from the various blood droplets to the point where they intersec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ea of convergence is the point of origin; the spot where the “blow” occurred. It may be established at the scene with measurement of angles by use of str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255420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441972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C55D-03F3-40DD-A9B8-19B7377591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the physical properties of blood and the patterns made under differen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, as a fluid, follows the laws of physic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893880"/>
            <a:ext cx="723924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5297-0427-445F-A579-3157935C958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Droplet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droplet will remain spherical in space until it collides with a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blood droplet impacts a surface, a bloodstain is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falling from the same height, hitting the same surface at the same angle, will produce a stain with the same basic 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DA09-D501-440D-BD05-E2D92C27E6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 Droplet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contains approximately 0.05 cc of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the same for all blood droplets, but is generally from 0.03 cc to 0.15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rectly dependent upon the surface or orifice from which it orig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area is calle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7E51-D59F-4337-85ED-965D2298CD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s Affe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hape of Blood Dro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dro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at which the blood droplet left its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of the targe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lean glass or p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 will have smooth outsid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rough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duce scalloping on the ed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3343-60C4-4E16-9BE5-8B73287BEE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Spatter example 2"/>
          <p:cNvPicPr/>
          <p:nvPr/>
        </p:nvPicPr>
        <p:blipFill>
          <a:blip r:embed="rId1"/>
          <a:stretch/>
        </p:blipFill>
        <p:spPr>
          <a:xfrm>
            <a:off x="1981080" y="1981080"/>
            <a:ext cx="152424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patter example 2b"/>
          <p:cNvPicPr/>
          <p:nvPr/>
        </p:nvPicPr>
        <p:blipFill>
          <a:blip r:embed="rId2"/>
          <a:stretch/>
        </p:blipFill>
        <p:spPr>
          <a:xfrm>
            <a:off x="5791320" y="1981080"/>
            <a:ext cx="148104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533412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5716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blood drop at the left struck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lastic wall ti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falling again from 42 inches. On the right, the drop fell from the same distance on to a piec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heavy, unusual textured wallpap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685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Effects of Surface Texture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lastic wall 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extured wall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EF90-A67F-42AF-9431-EB3A9FF47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tance between the target surface and the origin of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(s) of origin of the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and direction of a person or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blows, shots, etc. causing the bloodshed and/or the dispersal of blo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D539-852A-4FD8-B4E6-68251F46EF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and direction of impact that produced the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ition of the victim and/or object during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of the victim and/or object after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834E-3CE9-4D7D-BA4F-E5C0EE4FBC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at which blood strikes a target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stain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bloody object comes into contact with a surface and leaves a patterned blood image on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directed back toward the source of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thrown from an object in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8775-0BEC-47F8-A5C9-04DE397900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22:21:34Z</dcterms:created>
  <dc:creator>Barb Weekley</dc:creator>
  <dc:description/>
  <dc:language>en-US</dc:language>
  <cp:lastModifiedBy>Preferred Customer</cp:lastModifiedBy>
  <dcterms:modified xsi:type="dcterms:W3CDTF">2009-02-28T14:17:39Z</dcterms:modified>
  <cp:revision>170</cp:revision>
  <dc:subject/>
  <dc:title>FORENSIC SCIENCE Serology</dc:title>
</cp:coreProperties>
</file>